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</p:sldIdLst>
  <p:sldSz cx="15119350" cy="21383625"/>
  <p:notesSz cx="67135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7140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98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03400" y="-360"/>
            <a:ext cx="29098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2133720" y="692280"/>
            <a:ext cx="2449440" cy="34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10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71040" y="4389120"/>
            <a:ext cx="537228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775360"/>
            <a:ext cx="29098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03400" y="8775360"/>
            <a:ext cx="29098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4538-73DA-4694-92A5-11635FE2A4F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03760" y="8775720"/>
            <a:ext cx="2909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87ED-D610-4F9B-8AA9-810E01E6DA5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133720" y="692280"/>
            <a:ext cx="2449440" cy="3465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1040" y="4389120"/>
            <a:ext cx="537228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5D1F-7F98-4E82-B9D6-4ACBF7B00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2195280"/>
            <a:ext cx="1360800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1335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55640" y="6035760"/>
            <a:ext cx="1360800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55640" y="13183560"/>
            <a:ext cx="1360800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C212-BC55-4CEB-AB88-4DEF20B6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55640" y="2195280"/>
            <a:ext cx="1360800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1335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55640" y="6035760"/>
            <a:ext cx="6640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7728480" y="6035760"/>
            <a:ext cx="6640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55640" y="13183560"/>
            <a:ext cx="6640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728480" y="13183560"/>
            <a:ext cx="6640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C5AF-1D97-495D-AA54-7C1CD10B5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2195280"/>
            <a:ext cx="1360800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1335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55640" y="6035760"/>
            <a:ext cx="4381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56800" y="6035760"/>
            <a:ext cx="4381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9957600" y="6035760"/>
            <a:ext cx="4381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755640" y="13183560"/>
            <a:ext cx="4381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5356800" y="13183560"/>
            <a:ext cx="4381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9957600" y="13183560"/>
            <a:ext cx="4381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3D6B-C3E4-430C-9960-FA2836170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6735-32C2-4180-8443-E5EB3E85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2195280"/>
            <a:ext cx="1360800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1335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55640" y="6035760"/>
            <a:ext cx="13608000" cy="136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BB10-A7BF-409A-B74F-12D7ACD0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2195280"/>
            <a:ext cx="1360800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1335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6035760"/>
            <a:ext cx="13608000" cy="1368432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306A-1ECA-4A5B-BB62-8FAB9492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2195280"/>
            <a:ext cx="1360800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1335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640" y="6035760"/>
            <a:ext cx="6640560" cy="1368432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728480" y="6035760"/>
            <a:ext cx="6640560" cy="1368432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69AA-A534-412C-A4BB-5C011A1C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2195280"/>
            <a:ext cx="1360800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1335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0822-E933-40C5-9EFD-CD757390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755640" y="2195280"/>
            <a:ext cx="13608000" cy="165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1690-27FE-461C-8585-C1B37C4C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2195280"/>
            <a:ext cx="1360800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1335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55640" y="6035760"/>
            <a:ext cx="6640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728480" y="6035760"/>
            <a:ext cx="6640560" cy="1368432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55640" y="13183560"/>
            <a:ext cx="6640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06FC-6EF4-4B48-B915-035CCD86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2195280"/>
            <a:ext cx="1360800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1335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755640" y="6035760"/>
            <a:ext cx="13608000" cy="136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AE77-4687-422C-BFDE-C882DE7C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2195280"/>
            <a:ext cx="1360800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1335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55640" y="6035760"/>
            <a:ext cx="6640560" cy="1368432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728480" y="6035760"/>
            <a:ext cx="6640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728480" y="13183560"/>
            <a:ext cx="6640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8F51-2575-48B6-999A-C669F4CB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2195280"/>
            <a:ext cx="1360800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1335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55640" y="6035760"/>
            <a:ext cx="6640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728480" y="6035760"/>
            <a:ext cx="6640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55640" y="13183560"/>
            <a:ext cx="1360800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8BA0-29C6-40F0-BDFC-578B2D0D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2195280"/>
            <a:ext cx="1360800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1335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55640" y="6035760"/>
            <a:ext cx="1360800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55640" y="13183560"/>
            <a:ext cx="1360800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5D2C-37DC-4D80-B88E-269FDF12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2195280"/>
            <a:ext cx="1360800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1335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5640" y="6035760"/>
            <a:ext cx="6640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7728480" y="6035760"/>
            <a:ext cx="6640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55640" y="13183560"/>
            <a:ext cx="6640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7728480" y="13183560"/>
            <a:ext cx="6640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4EA0-B8F4-48E4-A761-6EB414CD2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2195280"/>
            <a:ext cx="1360800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1335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5640" y="6035760"/>
            <a:ext cx="4381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356800" y="6035760"/>
            <a:ext cx="4381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957600" y="6035760"/>
            <a:ext cx="4381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755640" y="13183560"/>
            <a:ext cx="4381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5356800" y="13183560"/>
            <a:ext cx="4381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9957600" y="13183560"/>
            <a:ext cx="4381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DCA3-B3CF-43B3-A8FF-060CBF0E6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D8A62-273B-4B11-87D4-5828D2CF4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2195280"/>
            <a:ext cx="1360800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1335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755640" y="6035760"/>
            <a:ext cx="13608000" cy="136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A1BF9-3E1F-4727-8AE3-F6EFBB8F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640" y="2195280"/>
            <a:ext cx="1360800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1335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640" y="6035760"/>
            <a:ext cx="13608000" cy="1368432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6D745-0495-449D-B4BA-28D8FB2F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640" y="2195280"/>
            <a:ext cx="1360800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1335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5640" y="6035760"/>
            <a:ext cx="6640560" cy="1368432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728480" y="6035760"/>
            <a:ext cx="6640560" cy="1368432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37989-1C9C-4D75-A82C-B25A400D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2195280"/>
            <a:ext cx="1360800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1335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C99EA-3BCB-455C-9F7D-F5165DDD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2195280"/>
            <a:ext cx="1360800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1335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6035760"/>
            <a:ext cx="13608000" cy="1368432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B31A-8045-4117-A531-974938F7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55640" y="2195280"/>
            <a:ext cx="13608000" cy="165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9B369-188A-41E9-8305-7D78E2FA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640" y="2195280"/>
            <a:ext cx="1360800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1335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640" y="6035760"/>
            <a:ext cx="6640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7728480" y="6035760"/>
            <a:ext cx="6640560" cy="1368432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55640" y="13183560"/>
            <a:ext cx="6640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05A63-7A08-4A46-B27A-96AA8241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640" y="2195280"/>
            <a:ext cx="1360800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1335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5640" y="6035760"/>
            <a:ext cx="6640560" cy="1368432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7728480" y="6035760"/>
            <a:ext cx="6640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728480" y="13183560"/>
            <a:ext cx="6640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A9902-9585-4865-BFC1-0EE0573C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640" y="2195280"/>
            <a:ext cx="1360800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1335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5640" y="6035760"/>
            <a:ext cx="6640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7728480" y="6035760"/>
            <a:ext cx="6640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755640" y="13183560"/>
            <a:ext cx="1360800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C9D7C-F139-45E0-9391-983A3FA6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2195280"/>
            <a:ext cx="1360800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1335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55640" y="6035760"/>
            <a:ext cx="1360800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755640" y="13183560"/>
            <a:ext cx="1360800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AFA24-DC4E-45EE-9D5D-7A600767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640" y="2195280"/>
            <a:ext cx="1360800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1335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5640" y="6035760"/>
            <a:ext cx="6640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7728480" y="6035760"/>
            <a:ext cx="6640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55640" y="13183560"/>
            <a:ext cx="6640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7728480" y="13183560"/>
            <a:ext cx="6640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9DCAB-339A-4D29-B826-621DF563E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5640" y="2195280"/>
            <a:ext cx="1360800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1335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640" y="6035760"/>
            <a:ext cx="4381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56800" y="6035760"/>
            <a:ext cx="4381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9957600" y="6035760"/>
            <a:ext cx="4381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755640" y="13183560"/>
            <a:ext cx="4381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5356800" y="13183560"/>
            <a:ext cx="4381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9957600" y="13183560"/>
            <a:ext cx="4381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7BCD4-27CA-4BEB-AC40-DC194265A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DB31F-4F88-419F-A687-637A8DEF4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2195280"/>
            <a:ext cx="1360800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1335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755640" y="6035760"/>
            <a:ext cx="13608000" cy="136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849CF-82B8-4364-A186-20CC554E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640" y="2195280"/>
            <a:ext cx="1360800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1335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5640" y="6035760"/>
            <a:ext cx="13608000" cy="1368432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90AA4-32B1-478A-AEC3-C4EDA4BD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640" y="2195280"/>
            <a:ext cx="1360800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1335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640" y="6035760"/>
            <a:ext cx="6640560" cy="1368432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28480" y="6035760"/>
            <a:ext cx="6640560" cy="1368432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37D1-08E6-44B8-9FDD-8564873E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5640" y="2195280"/>
            <a:ext cx="1360800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1335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55640" y="6035760"/>
            <a:ext cx="6640560" cy="1368432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7728480" y="6035760"/>
            <a:ext cx="6640560" cy="1368432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8FFE6-D3D8-46D3-A5C4-B84E22D8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2195280"/>
            <a:ext cx="1360800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1335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EDEDB-9F51-43BE-B179-4710B93C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755640" y="2195280"/>
            <a:ext cx="13608000" cy="165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50BA0-74AD-46DE-A574-5771CB51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2195280"/>
            <a:ext cx="1360800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1335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55640" y="6035760"/>
            <a:ext cx="6640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7728480" y="6035760"/>
            <a:ext cx="6640560" cy="1368432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755640" y="13183560"/>
            <a:ext cx="6640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7389B-EBBC-438A-B17F-DF9120CB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5640" y="2195280"/>
            <a:ext cx="1360800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1335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55640" y="6035760"/>
            <a:ext cx="6640560" cy="1368432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7728480" y="6035760"/>
            <a:ext cx="6640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728480" y="13183560"/>
            <a:ext cx="6640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E8FAF-08F4-4431-AC54-9C47E47B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55640" y="2195280"/>
            <a:ext cx="1360800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1335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55640" y="6035760"/>
            <a:ext cx="6640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7728480" y="6035760"/>
            <a:ext cx="6640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755640" y="13183560"/>
            <a:ext cx="1360800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540DD-FC65-446C-8A7A-6DCAD5A1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55640" y="2195280"/>
            <a:ext cx="1360800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1335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55640" y="6035760"/>
            <a:ext cx="1360800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755640" y="13183560"/>
            <a:ext cx="1360800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AE992-1A76-4BB9-A377-08C95D3E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640" y="2195280"/>
            <a:ext cx="1360800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1335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55640" y="6035760"/>
            <a:ext cx="6640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728480" y="6035760"/>
            <a:ext cx="6640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55640" y="13183560"/>
            <a:ext cx="6640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7728480" y="13183560"/>
            <a:ext cx="6640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14D6E-B41E-4DF3-8450-5BB567EE6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55640" y="2195280"/>
            <a:ext cx="1360800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1335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55640" y="6035760"/>
            <a:ext cx="4381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356800" y="6035760"/>
            <a:ext cx="4381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957600" y="6035760"/>
            <a:ext cx="4381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755640" y="13183560"/>
            <a:ext cx="4381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5356800" y="13183560"/>
            <a:ext cx="4381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9957600" y="13183560"/>
            <a:ext cx="4381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FB893-DFEB-407A-BB44-4A1C4DF71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5640" y="2195280"/>
            <a:ext cx="1360800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1335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9D63-40B6-473F-B34D-E79BD27B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755640" y="2195280"/>
            <a:ext cx="13608000" cy="165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5CC4-9C2D-4C8A-841F-854AC722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2195280"/>
            <a:ext cx="1360800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1335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640" y="6035760"/>
            <a:ext cx="6640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728480" y="6035760"/>
            <a:ext cx="6640560" cy="1368432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55640" y="13183560"/>
            <a:ext cx="6640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BF83-8047-4BB2-9FC5-FC776ECD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2195280"/>
            <a:ext cx="1360800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1335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640" y="6035760"/>
            <a:ext cx="6640560" cy="1368432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28480" y="6035760"/>
            <a:ext cx="6640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728480" y="13183560"/>
            <a:ext cx="6640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7B84-F260-4B88-80DC-FF94F59B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2195280"/>
            <a:ext cx="1360800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1335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6035760"/>
            <a:ext cx="6640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728480" y="6035760"/>
            <a:ext cx="664056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13183560"/>
            <a:ext cx="13608000" cy="652716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2C2B-A1F7-480B-A20D-F6C81676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15840" y="-22320"/>
            <a:ext cx="15150960" cy="3246480"/>
          </a:xfrm>
          <a:custGeom>
            <a:avLst/>
            <a:gdLst>
              <a:gd name="textAreaLeft" fmla="*/ 0 w 15150960"/>
              <a:gd name="textAreaRight" fmla="*/ 15151320 w 15150960"/>
              <a:gd name="textAreaTop" fmla="*/ 0 h 3246480"/>
              <a:gd name="textAreaBottom" fmla="*/ 3246840 h 3246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360" rIns="198360" tIns="99000" bIns="99000" anchor="t">
            <a:noAutofit/>
          </a:bodyPr>
          <a:p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7245360" y="-22320"/>
            <a:ext cx="7873920" cy="1989360"/>
          </a:xfrm>
          <a:custGeom>
            <a:avLst/>
            <a:gdLst>
              <a:gd name="textAreaLeft" fmla="*/ 0 w 7873920"/>
              <a:gd name="textAreaRight" fmla="*/ 7874280 w 7873920"/>
              <a:gd name="textAreaTop" fmla="*/ 0 h 1989360"/>
              <a:gd name="textAreaBottom" fmla="*/ 1989720 h 198936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360" rIns="198360" tIns="99000" bIns="99000" anchor="t">
            <a:noAutofit/>
          </a:bodyPr>
          <a:p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5640" y="2195280"/>
            <a:ext cx="1360800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1335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10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55640" y="6035760"/>
            <a:ext cx="13608000" cy="1368432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marL="595440" indent="-595440">
              <a:spcBef>
                <a:spcPts val="1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  <a:p>
            <a:pPr lvl="1" marL="1389240" indent="-535320">
              <a:spcBef>
                <a:spcPts val="1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  <a:p>
            <a:pPr lvl="2" marL="1984320" indent="-534960">
              <a:spcBef>
                <a:spcPts val="14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  <a:p>
            <a:pPr lvl="3" marL="2581200" indent="-455400">
              <a:spcBef>
                <a:spcPts val="14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  <a:p>
            <a:pPr lvl="4" marL="3176640" indent="-455760">
              <a:spcBef>
                <a:spcPts val="14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  <a:p>
            <a:pPr lvl="5" marL="3176640" indent="-455760">
              <a:spcBef>
                <a:spcPts val="14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  <a:p>
            <a:pPr lvl="6" marL="3176640" indent="-455760">
              <a:spcBef>
                <a:spcPts val="14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55640" y="19819800"/>
            <a:ext cx="352728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5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409640" y="19819800"/>
            <a:ext cx="5543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13102920" y="19819800"/>
            <a:ext cx="12603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5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F649-6E89-4579-8935-DFA02A20365D}" type="slidenum">
              <a:rPr b="0" lang="en-US" sz="25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31680" y="631800"/>
            <a:ext cx="15179760" cy="2023920"/>
            <a:chOff x="-31680" y="631800"/>
            <a:chExt cx="15179760" cy="202392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25200" y="631800"/>
              <a:ext cx="15136920" cy="2023920"/>
              <a:chOff x="-25200" y="631800"/>
              <a:chExt cx="15136920" cy="202392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8320" y="631800"/>
                <a:ext cx="15053400" cy="202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24840" y="1203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31680" y="812520"/>
              <a:ext cx="15179760" cy="1681200"/>
              <a:chOff x="-31680" y="812520"/>
              <a:chExt cx="15179760" cy="1681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29160" y="812520"/>
                <a:ext cx="15118920" cy="168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31320" y="1382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15840" y="-22320"/>
            <a:ext cx="15150960" cy="3246480"/>
          </a:xfrm>
          <a:custGeom>
            <a:avLst/>
            <a:gdLst>
              <a:gd name="textAreaLeft" fmla="*/ 0 w 15150960"/>
              <a:gd name="textAreaRight" fmla="*/ 15151320 w 15150960"/>
              <a:gd name="textAreaTop" fmla="*/ 0 h 3246480"/>
              <a:gd name="textAreaBottom" fmla="*/ 3246840 h 3246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360" rIns="198360" tIns="99000" bIns="99000" anchor="t">
            <a:noAutofit/>
          </a:bodyPr>
          <a:p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7245360" y="-22320"/>
            <a:ext cx="7873920" cy="1989360"/>
          </a:xfrm>
          <a:custGeom>
            <a:avLst/>
            <a:gdLst>
              <a:gd name="textAreaLeft" fmla="*/ 0 w 7873920"/>
              <a:gd name="textAreaRight" fmla="*/ 7874280 w 7873920"/>
              <a:gd name="textAreaTop" fmla="*/ 0 h 1989360"/>
              <a:gd name="textAreaBottom" fmla="*/ 1989720 h 198936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360" rIns="198360" tIns="99000" bIns="99000" anchor="t">
            <a:noAutofit/>
          </a:bodyPr>
          <a:p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31680" y="631800"/>
            <a:ext cx="15179760" cy="2023920"/>
            <a:chOff x="-31680" y="631800"/>
            <a:chExt cx="15179760" cy="202392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25200" y="631800"/>
              <a:ext cx="15136920" cy="2023920"/>
              <a:chOff x="-25200" y="631800"/>
              <a:chExt cx="15136920" cy="202392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8320" y="631800"/>
                <a:ext cx="15053400" cy="202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24840" y="1203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31680" y="812520"/>
              <a:ext cx="15179760" cy="1681200"/>
              <a:chOff x="-31680" y="812520"/>
              <a:chExt cx="15179760" cy="1681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29160" y="812520"/>
                <a:ext cx="15118920" cy="168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31320" y="1382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2195280"/>
            <a:ext cx="1360800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1335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10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755640" y="6035760"/>
            <a:ext cx="13608000" cy="1368432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marL="595440" indent="-595440">
              <a:spcBef>
                <a:spcPts val="1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  <a:p>
            <a:pPr lvl="1" marL="1389240" indent="-535320">
              <a:spcBef>
                <a:spcPts val="1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  <a:p>
            <a:pPr lvl="2" marL="1984320" indent="-534960">
              <a:spcBef>
                <a:spcPts val="14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  <a:p>
            <a:pPr lvl="3" marL="2581200" indent="-455400">
              <a:spcBef>
                <a:spcPts val="14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  <a:p>
            <a:pPr lvl="4" marL="3176640" indent="-455760">
              <a:spcBef>
                <a:spcPts val="14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  <a:p>
            <a:pPr lvl="5" marL="3176640" indent="-455760">
              <a:spcBef>
                <a:spcPts val="1400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  <a:p>
            <a:pPr lvl="6" marL="3176640" indent="-455760">
              <a:spcBef>
                <a:spcPts val="1400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755640" y="19819800"/>
            <a:ext cx="352728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5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4409640" y="19819800"/>
            <a:ext cx="5543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3102920" y="19819800"/>
            <a:ext cx="12603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5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A8F1-D22E-4668-9C36-E28D5C3711CA}" type="slidenum">
              <a:rPr b="0" lang="en-US" sz="25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15840" y="-22320"/>
            <a:ext cx="15150960" cy="3246480"/>
          </a:xfrm>
          <a:custGeom>
            <a:avLst/>
            <a:gdLst>
              <a:gd name="textAreaLeft" fmla="*/ 0 w 15150960"/>
              <a:gd name="textAreaRight" fmla="*/ 15151320 w 15150960"/>
              <a:gd name="textAreaTop" fmla="*/ 0 h 3246480"/>
              <a:gd name="textAreaBottom" fmla="*/ 3246840 h 3246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360" rIns="198360" tIns="99000" bIns="99000" anchor="t">
            <a:noAutofit/>
          </a:bodyPr>
          <a:p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7245360" y="-22320"/>
            <a:ext cx="7873920" cy="1989360"/>
          </a:xfrm>
          <a:custGeom>
            <a:avLst/>
            <a:gdLst>
              <a:gd name="textAreaLeft" fmla="*/ 0 w 7873920"/>
              <a:gd name="textAreaRight" fmla="*/ 7874280 w 7873920"/>
              <a:gd name="textAreaTop" fmla="*/ 0 h 1989360"/>
              <a:gd name="textAreaBottom" fmla="*/ 1989720 h 198936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360" rIns="198360" tIns="99000" bIns="99000" anchor="t">
            <a:noAutofit/>
          </a:bodyPr>
          <a:p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31680" y="631800"/>
            <a:ext cx="15179760" cy="2023920"/>
            <a:chOff x="-31680" y="631800"/>
            <a:chExt cx="15179760" cy="202392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25200" y="631800"/>
              <a:ext cx="15136920" cy="2023920"/>
              <a:chOff x="-25200" y="631800"/>
              <a:chExt cx="15136920" cy="202392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8320" y="631800"/>
                <a:ext cx="15053400" cy="202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24840" y="1203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31680" y="812520"/>
              <a:ext cx="15179760" cy="1681200"/>
              <a:chOff x="-31680" y="812520"/>
              <a:chExt cx="15179760" cy="1681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29160" y="812520"/>
                <a:ext cx="15118920" cy="168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31320" y="1382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640" y="2195280"/>
            <a:ext cx="1360800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1335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10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55640" y="6035760"/>
            <a:ext cx="13608000" cy="1368432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marL="595440" indent="-595440">
              <a:spcBef>
                <a:spcPts val="1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  <a:p>
            <a:pPr lvl="1" marL="1389240" indent="-535320">
              <a:spcBef>
                <a:spcPts val="1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  <a:p>
            <a:pPr lvl="2" marL="1984320" indent="-534960">
              <a:spcBef>
                <a:spcPts val="14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  <a:p>
            <a:pPr lvl="3" marL="2581200" indent="-455400">
              <a:spcBef>
                <a:spcPts val="14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  <a:p>
            <a:pPr lvl="4" marL="3176640" indent="-455760">
              <a:spcBef>
                <a:spcPts val="14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  <a:p>
            <a:pPr lvl="5" marL="3176640" indent="-455760">
              <a:spcBef>
                <a:spcPts val="1400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  <a:p>
            <a:pPr lvl="6" marL="3176640" indent="-455760">
              <a:spcBef>
                <a:spcPts val="1400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755640" y="19819800"/>
            <a:ext cx="352728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5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4409640" y="19819800"/>
            <a:ext cx="5543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13102920" y="19819800"/>
            <a:ext cx="12603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5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77AC-37C7-4160-A0DD-0873A560A7B1}" type="slidenum">
              <a:rPr b="0" lang="en-US" sz="25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15840" y="-22320"/>
            <a:ext cx="15150960" cy="3246480"/>
          </a:xfrm>
          <a:custGeom>
            <a:avLst/>
            <a:gdLst>
              <a:gd name="textAreaLeft" fmla="*/ 0 w 15150960"/>
              <a:gd name="textAreaRight" fmla="*/ 15151320 w 15150960"/>
              <a:gd name="textAreaTop" fmla="*/ 0 h 3246480"/>
              <a:gd name="textAreaBottom" fmla="*/ 3246840 h 3246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360" rIns="198360" tIns="99000" bIns="99000" anchor="t">
            <a:noAutofit/>
          </a:bodyPr>
          <a:p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7245360" y="-22320"/>
            <a:ext cx="7873920" cy="1989360"/>
          </a:xfrm>
          <a:custGeom>
            <a:avLst/>
            <a:gdLst>
              <a:gd name="textAreaLeft" fmla="*/ 0 w 7873920"/>
              <a:gd name="textAreaRight" fmla="*/ 7874280 w 7873920"/>
              <a:gd name="textAreaTop" fmla="*/ 0 h 1989360"/>
              <a:gd name="textAreaBottom" fmla="*/ 1989720 h 198936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360" rIns="198360" tIns="99000" bIns="99000" anchor="t">
            <a:noAutofit/>
          </a:bodyPr>
          <a:p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31680" y="631800"/>
            <a:ext cx="15179760" cy="2023920"/>
            <a:chOff x="-31680" y="631800"/>
            <a:chExt cx="15179760" cy="202392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25200" y="631800"/>
              <a:ext cx="15136920" cy="2023920"/>
              <a:chOff x="-25200" y="631800"/>
              <a:chExt cx="15136920" cy="202392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8320" y="631800"/>
                <a:ext cx="15053400" cy="202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24840" y="1203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31680" y="812520"/>
              <a:ext cx="15179760" cy="1681200"/>
              <a:chOff x="-31680" y="812520"/>
              <a:chExt cx="15179760" cy="16812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29160" y="812520"/>
                <a:ext cx="15118920" cy="168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31320" y="1382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5233680" y="3453840"/>
            <a:ext cx="8694720" cy="12830040"/>
          </a:xfrm>
          <a:custGeom>
            <a:avLst/>
            <a:gdLst/>
            <a:ahLst/>
            <a:rect l="l" t="t" r="r" b="b"/>
            <a:pathLst>
              <a:path w="8694737" h="12830175">
                <a:moveTo>
                  <a:pt x="0" y="0"/>
                </a:moveTo>
                <a:lnTo>
                  <a:pt x="8377727" y="0"/>
                </a:lnTo>
                <a:lnTo>
                  <a:pt x="8694737" y="317010"/>
                </a:lnTo>
                <a:lnTo>
                  <a:pt x="8694737" y="12830175"/>
                </a:lnTo>
                <a:lnTo>
                  <a:pt x="0" y="1283017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98360" rIns="198360" tIns="99000" bIns="99000" anchor="ctr">
            <a:noAutofit/>
          </a:bodyPr>
          <a:p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13234680" y="16710840"/>
            <a:ext cx="257040" cy="48600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98720" rIns="198720" tIns="58320" bIns="58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15480" y="18137160"/>
            <a:ext cx="15150960" cy="3246480"/>
          </a:xfrm>
          <a:custGeom>
            <a:avLst/>
            <a:gdLst>
              <a:gd name="textAreaLeft" fmla="*/ 0 w 15150960"/>
              <a:gd name="textAreaRight" fmla="*/ 15151320 w 15150960"/>
              <a:gd name="textAreaTop" fmla="*/ 360 h 3246480"/>
              <a:gd name="textAreaBottom" fmla="*/ 3247200 h 3246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360" rIns="198360" tIns="99000" bIns="99000" anchor="t">
            <a:noAutofit/>
          </a:bodyPr>
          <a:p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7245360" y="19393920"/>
            <a:ext cx="7873920" cy="1989000"/>
          </a:xfrm>
          <a:custGeom>
            <a:avLst/>
            <a:gdLst>
              <a:gd name="textAreaLeft" fmla="*/ 0 w 7873920"/>
              <a:gd name="textAreaRight" fmla="*/ 7874280 w 7873920"/>
              <a:gd name="textAreaTop" fmla="*/ -360 h 1989000"/>
              <a:gd name="textAreaBottom" fmla="*/ 1989000 h 198900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360" rIns="198360" tIns="99000" bIns="99000" anchor="t">
            <a:noAutofit/>
          </a:bodyPr>
          <a:p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640" y="2195280"/>
            <a:ext cx="1360800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13356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10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55640" y="6035760"/>
            <a:ext cx="13608000" cy="13684320"/>
          </a:xfrm>
          <a:prstGeom prst="rect">
            <a:avLst/>
          </a:prstGeom>
          <a:noFill/>
          <a:ln w="0">
            <a:noFill/>
          </a:ln>
        </p:spPr>
        <p:txBody>
          <a:bodyPr lIns="267480" rIns="267480" tIns="133560" bIns="133560" anchor="t">
            <a:normAutofit/>
          </a:bodyPr>
          <a:p>
            <a:pPr marL="595440" indent="-595440">
              <a:spcBef>
                <a:spcPts val="1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  <a:p>
            <a:pPr lvl="1" marL="1389240" indent="-535320">
              <a:spcBef>
                <a:spcPts val="1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  <a:p>
            <a:pPr lvl="2" marL="1984320" indent="-534960">
              <a:spcBef>
                <a:spcPts val="14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  <a:p>
            <a:pPr lvl="3" marL="2581200" indent="-455400">
              <a:spcBef>
                <a:spcPts val="14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  <a:p>
            <a:pPr lvl="4" marL="3176640" indent="-455760">
              <a:spcBef>
                <a:spcPts val="14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  <a:p>
            <a:pPr lvl="5" marL="3176640" indent="-455760">
              <a:spcBef>
                <a:spcPts val="14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  <a:p>
            <a:pPr lvl="6" marL="3176640" indent="-455760">
              <a:spcBef>
                <a:spcPts val="14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755640" y="19819800"/>
            <a:ext cx="352728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5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4409640" y="19819800"/>
            <a:ext cx="5543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13355640" y="19819800"/>
            <a:ext cx="100800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5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0DC3-8D0B-4E8D-84B0-AF40D4394344}" type="slidenum">
              <a:rPr b="0" lang="en-US" sz="25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ounded Rectangle 12"/>
          <p:cNvSpPr/>
          <p:nvPr/>
        </p:nvSpPr>
        <p:spPr>
          <a:xfrm>
            <a:off x="1174680" y="2308320"/>
            <a:ext cx="12769920" cy="3065400"/>
          </a:xfrm>
          <a:prstGeom prst="roundRect">
            <a:avLst>
              <a:gd name="adj" fmla="val 16667"/>
            </a:avLst>
          </a:prstGeom>
          <a:solidFill>
            <a:srgbClr val="f3f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040" rIns="68040" tIns="33840" bIns="338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984320"/>
                <a:tab algn="l" pos="3968640"/>
                <a:tab algn="l" pos="5952960"/>
                <a:tab algn="l" pos="7937640"/>
                <a:tab algn="l" pos="992196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Constantia"/>
                <a:cs typeface="B Titr"/>
              </a:rPr>
              <a:t>عنوان مقاله 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B Titr"/>
              </a:rPr>
              <a:t>B Titr 36 pt, Bold</a:t>
            </a:r>
            <a:r>
              <a:rPr b="1" lang="fa-IR" sz="3600" spc="-1" strike="noStrike">
                <a:solidFill>
                  <a:srgbClr val="000000"/>
                </a:solidFill>
                <a:latin typeface="Times New Roman"/>
                <a:ea typeface="B Titr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s New Roma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B Titr"/>
              </a:rPr>
              <a:t> 36 pt, Bol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B Titr"/>
              </a:rPr>
              <a:t>//</a:t>
            </a:r>
            <a:r>
              <a:rPr b="1" lang="fa-IR" sz="3600" spc="-1" strike="noStrike">
                <a:solidFill>
                  <a:srgbClr val="000000"/>
                </a:solidFill>
                <a:latin typeface="Constantia"/>
                <a:ea typeface="B Titr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1984320"/>
                <a:tab algn="l" pos="3968640"/>
                <a:tab algn="l" pos="5952960"/>
                <a:tab algn="l" pos="7937640"/>
                <a:tab algn="l" pos="99219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1984320"/>
                <a:tab algn="l" pos="3968640"/>
                <a:tab algn="l" pos="5952960"/>
                <a:tab algn="l" pos="7937640"/>
                <a:tab algn="l" pos="992196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Constantia"/>
                <a:cs typeface="B Nazanin"/>
              </a:rPr>
              <a:t>نویسنده مسئول</a:t>
            </a:r>
            <a:r>
              <a:rPr b="1" lang="fa-IR" sz="2800" spc="-1" strike="noStrike" baseline="30000">
                <a:solidFill>
                  <a:srgbClr val="000000"/>
                </a:solidFill>
                <a:latin typeface="Constantia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Constantia"/>
                <a:ea typeface="B Nazanin"/>
              </a:rPr>
              <a:t> ، سایر نویسندگان</a:t>
            </a:r>
            <a:r>
              <a:rPr b="1" lang="fa-IR" sz="2800" spc="-1" strike="noStrike" baseline="30000">
                <a:solidFill>
                  <a:srgbClr val="000000"/>
                </a:solidFill>
                <a:latin typeface="Constantia"/>
                <a:ea typeface="B Nazanin"/>
              </a:rPr>
              <a:t>2</a:t>
            </a:r>
            <a:r>
              <a:rPr b="1" lang="fa-IR" sz="2800" spc="-1" strike="noStrike" baseline="30000">
                <a:solidFill>
                  <a:srgbClr val="000000"/>
                </a:solidFill>
                <a:latin typeface="Constantia"/>
                <a:ea typeface="B Nazanin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Constantia"/>
                <a:ea typeface="B Nazani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B Nazanin 28 pt, Bold</a:t>
            </a:r>
            <a:r>
              <a:rPr b="1" lang="fa-IR" sz="2800" spc="-1" strike="noStrike">
                <a:solidFill>
                  <a:srgbClr val="000000"/>
                </a:solidFill>
                <a:latin typeface="Constantia"/>
                <a:ea typeface="B Nazani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1984320"/>
                <a:tab algn="l" pos="3968640"/>
                <a:tab algn="l" pos="5952960"/>
                <a:tab algn="l" pos="7937640"/>
                <a:tab algn="l" pos="99219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1984320"/>
                <a:tab algn="l" pos="3968640"/>
                <a:tab algn="l" pos="5952960"/>
                <a:tab algn="l" pos="7937640"/>
                <a:tab algn="l" pos="9921960"/>
              </a:tabLst>
            </a:pPr>
            <a:r>
              <a:rPr b="1" lang="fa-IR" sz="2400" spc="-1" strike="noStrike" baseline="30000">
                <a:solidFill>
                  <a:srgbClr val="000000"/>
                </a:solidFill>
                <a:latin typeface="Constantia"/>
                <a:ea typeface="B Nazanin"/>
              </a:rPr>
              <a:t>1</a:t>
            </a:r>
            <a:r>
              <a:rPr b="0" lang="fa-IR" sz="2400" spc="-1" strike="noStrike">
                <a:solidFill>
                  <a:srgbClr val="000000"/>
                </a:solidFill>
                <a:latin typeface="Constantia"/>
                <a:cs typeface="B Nazanin"/>
              </a:rPr>
              <a:t>مرتبه علمی نویسنده مسئول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Nazanin 24 pt</a:t>
            </a:r>
            <a:r>
              <a:rPr b="0" lang="fa-IR" sz="2400" spc="-1" strike="noStrike">
                <a:solidFill>
                  <a:srgbClr val="000000"/>
                </a:solidFill>
                <a:latin typeface="Constantia"/>
                <a:ea typeface="B Nazani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1984320"/>
                <a:tab algn="l" pos="3968640"/>
                <a:tab algn="l" pos="5952960"/>
                <a:tab algn="l" pos="7937640"/>
                <a:tab algn="l" pos="992196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Constantia"/>
                <a:ea typeface="B Nazanin"/>
              </a:rPr>
              <a:t>2</a:t>
            </a:r>
            <a:r>
              <a:rPr b="0" lang="fa-IR" sz="2400" spc="-1" strike="noStrike">
                <a:solidFill>
                  <a:srgbClr val="000000"/>
                </a:solidFill>
                <a:latin typeface="Constantia"/>
                <a:cs typeface="B Nazanin"/>
              </a:rPr>
              <a:t>مرتبه علمی سایر نویسندگان 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Nazanin 24 pt</a:t>
            </a:r>
            <a:r>
              <a:rPr b="0" lang="fa-IR" sz="2400" spc="-1" strike="noStrike">
                <a:solidFill>
                  <a:srgbClr val="000000"/>
                </a:solidFill>
                <a:latin typeface="Constantia"/>
                <a:ea typeface="B Nazani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1984320"/>
                <a:tab algn="l" pos="3968640"/>
                <a:tab algn="l" pos="5952960"/>
                <a:tab algn="l" pos="7937640"/>
                <a:tab algn="l" pos="9921960"/>
              </a:tabLst>
            </a:pPr>
            <a:r>
              <a:rPr b="0" i="1" lang="fa-IR" sz="22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یمیل نویسنده مسئول </a:t>
            </a:r>
            <a:r>
              <a:rPr b="0" i="1" lang="fa-I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s New Roman 22 pt, Italict</a:t>
            </a:r>
            <a:r>
              <a:rPr b="0" i="1" lang="fa-I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50"/>
          <p:cNvGrpSpPr/>
          <p:nvPr/>
        </p:nvGrpSpPr>
        <p:grpSpPr>
          <a:xfrm>
            <a:off x="360360" y="5626080"/>
            <a:ext cx="14220720" cy="15405120"/>
            <a:chOff x="360360" y="5626080"/>
            <a:chExt cx="14220720" cy="15405120"/>
          </a:xfrm>
        </p:grpSpPr>
        <p:sp>
          <p:nvSpPr>
            <p:cNvPr id="213" name="AutoShape 50"/>
            <p:cNvSpPr/>
            <p:nvPr/>
          </p:nvSpPr>
          <p:spPr>
            <a:xfrm>
              <a:off x="360360" y="5628960"/>
              <a:ext cx="6931080" cy="15384600"/>
            </a:xfrm>
            <a:custGeom>
              <a:avLst/>
              <a:gdLst>
                <a:gd name="textAreaLeft" fmla="*/ 141840 w 6931080"/>
                <a:gd name="textAreaRight" fmla="*/ 6789240 w 6931080"/>
                <a:gd name="textAreaTop" fmla="*/ 141840 h 15384600"/>
                <a:gd name="textAreaBottom" fmla="*/ 15242760 h 15384600"/>
              </a:gdLst>
              <a:ahLst/>
              <a:rect l="textAreaLeft" t="textAreaTop" r="textAreaRight" b="textAreaBottom"/>
              <a:pathLst>
                <a:path w="21600" h="47943">
                  <a:moveTo>
                    <a:pt x="1512" y="0"/>
                  </a:moveTo>
                  <a:arcTo wR="1512" hR="1512" stAng="16200000" swAng="-5400000"/>
                  <a:lnTo>
                    <a:pt x="0" y="46431"/>
                  </a:lnTo>
                  <a:arcTo wR="1512" hR="1512" stAng="10800000" swAng="-5400000"/>
                  <a:lnTo>
                    <a:pt x="20088" y="47943"/>
                  </a:lnTo>
                  <a:arcTo wR="1512" hR="1512" stAng="5400000" swAng="-5400000"/>
                  <a:lnTo>
                    <a:pt x="21600" y="1512"/>
                  </a:lnTo>
                  <a:arcTo wR="1512" hR="1512" stAng="0" swAng="-5400000"/>
                  <a:close/>
                </a:path>
              </a:pathLst>
            </a:custGeom>
            <a:solidFill>
              <a:srgbClr val="f3f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0"/>
            <p:cNvSpPr/>
            <p:nvPr/>
          </p:nvSpPr>
          <p:spPr>
            <a:xfrm>
              <a:off x="1307880" y="14670000"/>
              <a:ext cx="5807160" cy="4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20520" bIns="2052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1984320"/>
                  <a:tab algn="l" pos="3968640"/>
                  <a:tab algn="l" pos="5952960"/>
                  <a:tab algn="l" pos="7937640"/>
                  <a:tab algn="l" pos="9921960"/>
                </a:tabLst>
              </a:pPr>
              <a:r>
                <a:rPr b="1" lang="fa-IR" sz="2800" spc="-1" strike="noStrike">
                  <a:solidFill>
                    <a:srgbClr val="000000"/>
                  </a:solidFill>
                  <a:latin typeface="Arial"/>
                  <a:cs typeface="B Titr"/>
                </a:rPr>
                <a:t>بحث و نتیجه گیر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1307880" y="17741880"/>
              <a:ext cx="5807160" cy="4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20520" bIns="2052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1984320"/>
                  <a:tab algn="l" pos="3968640"/>
                  <a:tab algn="l" pos="5952960"/>
                  <a:tab algn="l" pos="7937640"/>
                  <a:tab algn="l" pos="9921960"/>
                </a:tabLst>
              </a:pPr>
              <a:r>
                <a:rPr b="1" lang="fa-IR" sz="2800" spc="-1" strike="noStrike">
                  <a:solidFill>
                    <a:srgbClr val="000000"/>
                  </a:solidFill>
                  <a:latin typeface="Arial"/>
                  <a:cs typeface="B Titr"/>
                </a:rPr>
                <a:t>منابع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43"/>
            <p:cNvSpPr/>
            <p:nvPr/>
          </p:nvSpPr>
          <p:spPr>
            <a:xfrm>
              <a:off x="1169640" y="5811480"/>
              <a:ext cx="5945040" cy="46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t">
              <a:sp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1633680"/>
                  <a:tab algn="l" pos="3267000"/>
                  <a:tab algn="l" pos="4900680"/>
                  <a:tab algn="l" pos="6534000"/>
                  <a:tab algn="l" pos="8167680"/>
                  <a:tab algn="l" pos="9801360"/>
                </a:tabLst>
              </a:pPr>
              <a:r>
                <a:rPr b="1" lang="fa-IR" sz="2800" spc="-1" strike="noStrike">
                  <a:solidFill>
                    <a:srgbClr val="000000"/>
                  </a:solidFill>
                  <a:latin typeface="Arial"/>
                  <a:cs typeface="B Titr"/>
                </a:rPr>
                <a:t>یافته ها و نتای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4"/>
            <p:cNvSpPr/>
            <p:nvPr/>
          </p:nvSpPr>
          <p:spPr>
            <a:xfrm>
              <a:off x="7650000" y="5626080"/>
              <a:ext cx="6931080" cy="15405120"/>
            </a:xfrm>
            <a:custGeom>
              <a:avLst/>
              <a:gdLst>
                <a:gd name="textAreaLeft" fmla="*/ 141840 w 6931080"/>
                <a:gd name="textAreaRight" fmla="*/ 6789240 w 6931080"/>
                <a:gd name="textAreaTop" fmla="*/ 141840 h 15405120"/>
                <a:gd name="textAreaBottom" fmla="*/ 15263280 h 15405120"/>
              </a:gdLst>
              <a:ahLst/>
              <a:rect l="textAreaLeft" t="textAreaTop" r="textAreaRight" b="textAreaBottom"/>
              <a:pathLst>
                <a:path w="21600" h="48007">
                  <a:moveTo>
                    <a:pt x="1512" y="0"/>
                  </a:moveTo>
                  <a:arcTo wR="1512" hR="1512" stAng="16200000" swAng="-5400000"/>
                  <a:lnTo>
                    <a:pt x="0" y="46495"/>
                  </a:lnTo>
                  <a:arcTo wR="1512" hR="1512" stAng="10800000" swAng="-5400000"/>
                  <a:lnTo>
                    <a:pt x="20088" y="48007"/>
                  </a:lnTo>
                  <a:arcTo wR="1512" hR="1512" stAng="5400000" swAng="-5400000"/>
                  <a:lnTo>
                    <a:pt x="21600" y="1512"/>
                  </a:lnTo>
                  <a:arcTo wR="1512" hR="1512" stAng="0" swAng="-5400000"/>
                  <a:close/>
                </a:path>
              </a:pathLst>
            </a:custGeom>
            <a:solidFill>
              <a:srgbClr val="f3f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0"/>
            <p:cNvSpPr/>
            <p:nvPr/>
          </p:nvSpPr>
          <p:spPr>
            <a:xfrm>
              <a:off x="8634240" y="7907040"/>
              <a:ext cx="57690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1633680"/>
                  <a:tab algn="l" pos="3267000"/>
                  <a:tab algn="l" pos="4900680"/>
                  <a:tab algn="l" pos="6534000"/>
                  <a:tab algn="l" pos="8167680"/>
                  <a:tab algn="l" pos="9801360"/>
                </a:tabLst>
              </a:pPr>
              <a:r>
                <a:rPr b="1" lang="fa-IR" sz="2400" spc="-1" strike="noStrike">
                  <a:solidFill>
                    <a:srgbClr val="000000"/>
                  </a:solidFill>
                  <a:latin typeface="Arial"/>
                  <a:cs typeface="B Titr"/>
                </a:rPr>
                <a:t>هدف تحقی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Box 30"/>
            <p:cNvSpPr/>
            <p:nvPr/>
          </p:nvSpPr>
          <p:spPr>
            <a:xfrm>
              <a:off x="8597880" y="10845720"/>
              <a:ext cx="580536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000000"/>
                  </a:solidFill>
                  <a:latin typeface="Arial"/>
                  <a:cs typeface="B Titr"/>
                </a:rPr>
                <a:t>روش تحقی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10"/>
            <p:cNvSpPr/>
            <p:nvPr/>
          </p:nvSpPr>
          <p:spPr>
            <a:xfrm>
              <a:off x="8616240" y="5758560"/>
              <a:ext cx="57690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16920" bIns="1692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1633680"/>
                  <a:tab algn="l" pos="3267000"/>
                  <a:tab algn="l" pos="4900680"/>
                  <a:tab algn="l" pos="6534000"/>
                  <a:tab algn="l" pos="8167680"/>
                  <a:tab algn="l" pos="9801360"/>
                </a:tabLst>
              </a:pPr>
              <a:r>
                <a:rPr b="1" lang="fa-IR" sz="2400" spc="-1" strike="noStrike">
                  <a:solidFill>
                    <a:srgbClr val="000000"/>
                  </a:solidFill>
                  <a:latin typeface="Arial"/>
                  <a:cs typeface="B Titr"/>
                </a:rPr>
                <a:t>چکید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1" name="Object 31"/>
              <p:cNvSpPr txBox="1"/>
              <p:nvPr/>
            </p:nvSpPr>
            <p:spPr>
              <a:xfrm>
                <a:off x="7521480" y="10620360"/>
                <a:ext cx="7632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2" name="Text Box 42"/>
          <p:cNvSpPr/>
          <p:nvPr/>
        </p:nvSpPr>
        <p:spPr>
          <a:xfrm>
            <a:off x="539640" y="6257880"/>
            <a:ext cx="6659640" cy="8411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00" rIns="41400" tIns="20520" bIns="2052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2"/>
          <p:cNvSpPr/>
          <p:nvPr/>
        </p:nvSpPr>
        <p:spPr>
          <a:xfrm>
            <a:off x="539640" y="18208800"/>
            <a:ext cx="6659640" cy="2373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00" rIns="41400" tIns="20520" bIns="205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51"/>
          <p:cNvSpPr/>
          <p:nvPr/>
        </p:nvSpPr>
        <p:spPr>
          <a:xfrm>
            <a:off x="2016000" y="184320"/>
            <a:ext cx="11087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nationa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ference on Solar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CESE-201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 November 20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of Tehran, Tehran, I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992160" y="-108000"/>
            <a:ext cx="2271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8"/>
          <p:cNvSpPr/>
          <p:nvPr/>
        </p:nvSpPr>
        <p:spPr>
          <a:xfrm>
            <a:off x="992160" y="-108000"/>
            <a:ext cx="2271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0"/>
          <p:cNvSpPr/>
          <p:nvPr/>
        </p:nvSpPr>
        <p:spPr>
          <a:xfrm>
            <a:off x="992160" y="-108000"/>
            <a:ext cx="2271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68040" tIns="33840" bIns="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2"/>
          <p:cNvSpPr/>
          <p:nvPr/>
        </p:nvSpPr>
        <p:spPr>
          <a:xfrm>
            <a:off x="7785000" y="8405640"/>
            <a:ext cx="6659640" cy="2440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00" rIns="41400" tIns="20520" bIns="2052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2"/>
          <p:cNvSpPr/>
          <p:nvPr/>
        </p:nvSpPr>
        <p:spPr>
          <a:xfrm>
            <a:off x="7785000" y="11341080"/>
            <a:ext cx="6659640" cy="958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00" rIns="41400" tIns="20520" bIns="2052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2"/>
          <p:cNvSpPr/>
          <p:nvPr/>
        </p:nvSpPr>
        <p:spPr>
          <a:xfrm>
            <a:off x="7743960" y="6257880"/>
            <a:ext cx="6659280" cy="257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00" rIns="41400" tIns="20520" bIns="2052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B Nazanin"/>
              </a:rPr>
              <a:t>چکیده و قسمت های مختلف عنوان شده با قل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Nazanin 16 p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a-I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B Nazanin"/>
              </a:rPr>
              <a:t>تکمیل شود. هر پاراگراف با پنج فاصله از ابتدا آغاز شده و  قسمت های مختلف با توجه به عنوان آن تکمیل شود. پوستر در اندازه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A2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Nazanin"/>
              </a:rPr>
              <a:t> و به صورت </a:t>
            </a:r>
            <a:r>
              <a:rPr b="0" lang="fa-IR" sz="2000" spc="-1" strike="noStrike" u="sng">
                <a:solidFill>
                  <a:srgbClr val="000000"/>
                </a:solidFill>
                <a:uFillTx/>
                <a:latin typeface="Arial"/>
                <a:cs typeface="B Nazanin"/>
              </a:rPr>
              <a:t>رنگی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Nazanin"/>
              </a:rPr>
              <a:t> چاپ شده و در روز کنفرانس در محل مربوطه توسط نویسنده مسئول نصب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2"/>
          <p:cNvSpPr/>
          <p:nvPr/>
        </p:nvSpPr>
        <p:spPr>
          <a:xfrm>
            <a:off x="539640" y="15143040"/>
            <a:ext cx="6659640" cy="2373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00" rIns="41400" tIns="20520" bIns="205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6" descr="C:\Users\Na.Ha\Desktop\logo-finalll.png"/>
          <p:cNvPicPr/>
          <p:nvPr/>
        </p:nvPicPr>
        <p:blipFill>
          <a:blip r:embed="rId1"/>
          <a:stretch/>
        </p:blipFill>
        <p:spPr>
          <a:xfrm>
            <a:off x="0" y="0"/>
            <a:ext cx="223848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00:20:37Z</dcterms:created>
  <dc:creator>Eskanlou</dc:creator>
  <dc:description>Mining Eng</dc:description>
  <dc:language>en-US</dc:language>
  <cp:lastModifiedBy>Na.Ha</cp:lastModifiedBy>
  <dcterms:modified xsi:type="dcterms:W3CDTF">2019-09-10T11:56:13Z</dcterms:modified>
  <cp:revision>197</cp:revision>
  <dc:subject/>
  <dc:title>70x100 cm vertical poster template</dc:title>
</cp:coreProperties>
</file>